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DC2-F029-4D0B-BB62-D2CD615A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04A-05F7-4E5E-8E46-1C64BAD3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E6B-5947-4C0A-9ABA-5E22F468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0CB-1168-4E49-98E6-C760C9EE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DD55-648B-43EB-B003-29D2E4C8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6008-EF96-4212-A698-03BA95E5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7BD3-998E-4473-80D7-72AD07BD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1D41-9B6F-48E1-B17A-6FC8DFC6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A8C9-4A2E-466B-8DD0-075804B2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D005-AD53-45F9-9501-A9568837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C730-FFB2-4F56-8B05-ABF94DC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257-2397-4131-876A-E7FB140B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CF51-367D-4BBE-8E95-4A431BB6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281C-CBDF-4353-BAFB-376C6B42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33E0-C2EB-449F-8192-1923539E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B8C7-2130-4A00-8893-B9637188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1689-45A3-413D-A4DE-E340310D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565-3178-464B-AD0A-96EBF82B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CFD-336C-4616-9526-69B74555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27A-C703-4B11-AEC7-5EA4F7FB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7F0-F245-4275-9B6F-F84677E0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F07-03A3-4CAE-9CBA-664029B9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3A7-437C-4821-9630-276246A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54F-C3F4-40FA-9043-0ACC308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F3D6-F765-4C6C-945D-AA0D7C44DE5B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085C-4C9C-4132-A918-0C998487D1D8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595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弗之怠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又患无名师与游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寓逆旅主人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1844640"/>
            <a:ext cx="24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宾语前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2997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42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今诸生学</a:t>
            </a:r>
            <a:r>
              <a:rPr b="1" lang="zh-CN" sz="3200" spc="-1" strike="noStrike" u="sng">
                <a:solidFill>
                  <a:srgbClr val="292929"/>
                </a:solidFill>
                <a:uFillTx/>
                <a:latin typeface="Arial"/>
              </a:rPr>
              <a:t>于太学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其业有不精，德有不成者，非天质之卑，则心不若余之专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191628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状语后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4437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判断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自谓少时用心</a:t>
            </a:r>
            <a:r>
              <a:rPr b="1" lang="zh-CN" sz="3200" spc="-1" strike="noStrike" u="sng">
                <a:solidFill>
                  <a:srgbClr val="292929"/>
                </a:solidFill>
                <a:uFillTx/>
                <a:latin typeface="Arial"/>
              </a:rPr>
              <a:t>于学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甚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撰长书以为贽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状语后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3068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翻译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6143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以中有足乐者，不知口体之奉不若人也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盖余之勤且艰若此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637000"/>
            <a:ext cx="61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因为心中有足以快乐的事，不觉得吃的穿的不如别人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013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概我的辛勤且艰苦读书就像这样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翻译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其业有不精，德有不成者，非天质之卑，则心不若余之专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余朝京师，生以乡人子谒余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39840" y="41544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852640"/>
            <a:ext cx="7201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他们学业有不精通，品德没有养成的人，不是天资低下，而是用心没有我专一罢了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57340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5229360"/>
            <a:ext cx="8007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进京朝见皇帝，马生凭同乡晚辈的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身份拜见我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一段主要写了什么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645000"/>
            <a:ext cx="7920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一段作者是从哪几个方面谈自己刻苦求学的经历？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34936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年轻时求学之难和用心之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108000" y="3357720"/>
            <a:ext cx="3527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9933"/>
                </a:solidFill>
                <a:uFillTx/>
                <a:latin typeface="Times New Roman"/>
              </a:rPr>
              <a:t>自身求学经历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1916280"/>
            <a:ext cx="304920" cy="3581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484280"/>
            <a:ext cx="395928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幼时抄书之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成年叩问之难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求师奔走之劳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住读生活之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32000" y="544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5229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总括：勤且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二段主要写了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0920" y="4149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44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今太学生优越的学习条件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3141720"/>
            <a:ext cx="71276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写了哪些方面的优越条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443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衣、食、行、求师、书籍等方面的优越条件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783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衣食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”日有……岁有……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行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—”无奔走之劳”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求师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”未有问而不告……”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书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—”凡所宜有之书……”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结论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55736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住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之苦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278136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求师奔走之劳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350028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成年叩问之难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1080" y="4149720"/>
            <a:ext cx="225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幼时抄书之艰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90880" y="5207040"/>
            <a:ext cx="4941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业有不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德有不成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天质之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则心不若余之专耳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176400" y="2637000"/>
            <a:ext cx="7290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比   诸    生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1844640"/>
            <a:ext cx="216000" cy="38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通过对比，作者想说明什么道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492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2565360"/>
            <a:ext cx="7705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学习条件的好差，对学习效果并没有决定性的影响。学习条件不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以学有所成，学习条件优越，也会“业有不精，德有不成”。促使学习成功的重要因素是学者的态度：要“勤且艰”，要专心，要乐在其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8360" y="1211760"/>
            <a:ext cx="8005680" cy="5646240"/>
            <a:chOff x="468360" y="1211760"/>
            <a:chExt cx="8005680" cy="56462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580000" y="2754360"/>
              <a:ext cx="2802960" cy="41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468360" y="1211760"/>
              <a:ext cx="8005680" cy="1938240"/>
              <a:chOff x="468360" y="1211760"/>
              <a:chExt cx="8005680" cy="1938240"/>
            </a:xfrm>
          </p:grpSpPr>
          <p:sp>
            <p:nvSpPr>
              <p:cNvPr id="98" name=""/>
              <p:cNvSpPr/>
              <p:nvPr/>
            </p:nvSpPr>
            <p:spPr>
              <a:xfrm>
                <a:off x="468360" y="1211760"/>
                <a:ext cx="800568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   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宋濂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（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1310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～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1381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），字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景濂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号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潜溪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谥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文宪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浙江浦江人，明初著名散文家。他生活在元末明初，少时家贫，勤</a:t>
                </a:r>
                <a:endParaRPr b="0" lang="en-US" sz="3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8360" y="2538360"/>
                <a:ext cx="5040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奋好学。从文治方面对明朝的建立和巩固做出了贡献，被推为“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开国文臣之首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”。生平著作很多，有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《宋学士文集》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。</a:t>
                </a:r>
                <a:endParaRPr b="0" lang="en-US" sz="3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16000" y="62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作者写这篇赠序的原因是什么？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2005560"/>
            <a:ext cx="79916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君则在太学已二年，流辈甚称其贤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乡关系，“以乡人子谒余”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撰长书，辞甚畅达，与之论辩，言和而色夷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之，“是可谓善学者”。“其将归见其亲”，“故道为学之难”来勉励他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8360" y="3141720"/>
            <a:ext cx="6408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太学生学习条件之优越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628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年轻时求学之难和用心之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765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一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256536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二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508640"/>
            <a:ext cx="19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三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5229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明作者的写作意图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451640" y="1916280"/>
            <a:ext cx="144720" cy="1800000"/>
          </a:xfrm>
          <a:custGeom>
            <a:avLst/>
            <a:gdLst>
              <a:gd name="textAreaLeft" fmla="*/ 0 w 144720"/>
              <a:gd name="textAreaRight" fmla="*/ 52200 w 1447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4606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对比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4360" y="2365560"/>
            <a:ext cx="770544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作者生动地叙述了自己年轻时在买书、求师不易的条件下，刻苦学习的艰苦经历，语重心长地劝勉青年一代应当专心向学，刻苦用功，千万不要辜负良好的条件，浪费大好的时光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71640" y="24789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了这篇文章，联系自身，谈谈你受到的启发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87280" y="765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讨论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902520"/>
            <a:ext cx="792000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下面句子朗读节奏有误的一项是（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余／因得／遍观群书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尝趋百里外／从乡之先达／执经叩问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又患／无硕师／名人与游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不知／口体之奉／不若人也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198900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3640" y="332640"/>
            <a:ext cx="8280360" cy="108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练习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96840" y="1413000"/>
            <a:ext cx="472752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怠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走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益慕圣贤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道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师也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盖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勤且艰若此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2240" y="1413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2133720"/>
            <a:ext cx="6121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代“抄书”    宾语前置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92920" y="2854440"/>
            <a:ext cx="22503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代词，指“书”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52320" y="3645000"/>
            <a:ext cx="21315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结构助词，的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04680" y="4437000"/>
            <a:ext cx="31068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主谓间取消句子独立性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0520" y="5877000"/>
            <a:ext cx="223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结构助词，的 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6429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、一字多义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2205000"/>
            <a:ext cx="144720" cy="3529080"/>
          </a:xfrm>
          <a:custGeom>
            <a:avLst/>
            <a:gdLst>
              <a:gd name="textAreaLeft" fmla="*/ 92520 w 144720"/>
              <a:gd name="textAreaRight" fmla="*/ 145080 w 14472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03360" y="12679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衾拥覆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乡人子谒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贫，无从致书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俯身倾耳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请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有足乐者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人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书假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62064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87960" y="1341360"/>
            <a:ext cx="12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介词， 用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20520" y="198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介词，凭借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62640" y="2637000"/>
            <a:ext cx="22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目的，来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8560" y="3284640"/>
            <a:ext cx="250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修饰关系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02360" y="393372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原因， 因为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7120" y="5445000"/>
            <a:ext cx="51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一“以”，因为，同“是”组合，相当于“因此”；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后一 “以”是介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把”或“拿”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628640"/>
            <a:ext cx="144360" cy="360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58920" y="-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今异义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829440"/>
            <a:ext cx="7993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汤    媵人持汤沃灌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走    走送之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趋    尝趋百里外从乡之先达执经叩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148428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11280" y="2133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等煮后所得的汁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29000" y="336384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4076640"/>
            <a:ext cx="19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行走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25680" y="53006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1280" y="5950080"/>
            <a:ext cx="14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趋势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1844640"/>
            <a:ext cx="73080" cy="7207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3716280"/>
            <a:ext cx="73080" cy="86508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558972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26920" y="2880"/>
            <a:ext cx="6050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或    或遇其叱咄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卒    卒获有所闻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遗    父母岁有裘葛之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假    以是人多以书假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54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1125360"/>
            <a:ext cx="19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者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8000" y="213984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2716200"/>
            <a:ext cx="16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士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5400" y="3860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赠送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11280" y="43718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遗失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5516640"/>
            <a:ext cx="14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借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609300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虚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与真相反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116000" y="765000"/>
            <a:ext cx="71280" cy="79236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2492280"/>
            <a:ext cx="73080" cy="7207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414972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5805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完成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lt;&l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导学与同步训练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gt;&g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lt;&l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学习指导用书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gt;&g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相关内容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课后整理好词类活用、通假字、一字多义、古今异义、特殊句式等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2614680"/>
            <a:ext cx="817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解题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本文写于洪武十一年（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1378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）。这一年，辞官归里的宋濂又从家乡到应天府（今江苏省南京市，当时是国都）朝见朱元璋。他的同乡晚辈马君则来拜见他，他便写了这篇“赠序”送给东阳马生。东阳，在今浙江省，当时与浦江、义乌等县同属金华府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赠序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古代的一种文体，有临别赠言性质，内容多为推重、赞许或勉励之辞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8406"/>
                </a:moveTo>
                <a:lnTo>
                  <a:pt x="14899" y="8406"/>
                </a:lnTo>
                <a:lnTo>
                  <a:pt x="19321" y="3794"/>
                </a:lnTo>
                <a:lnTo>
                  <a:pt x="19321" y="17806"/>
                </a:lnTo>
                <a:lnTo>
                  <a:pt x="14899" y="13194"/>
                </a:lnTo>
                <a:lnTo>
                  <a:pt x="10469" y="13194"/>
                </a:lnTo>
                <a:close/>
              </a:path>
              <a:path fill="darken" w="34951" h="21600">
                <a:moveTo>
                  <a:pt x="20975" y="10800"/>
                </a:moveTo>
                <a:lnTo>
                  <a:pt x="24482" y="10800"/>
                </a:lnTo>
              </a:path>
              <a:path fill="darken" w="34951" h="21600">
                <a:moveTo>
                  <a:pt x="20975" y="8406"/>
                </a:moveTo>
                <a:lnTo>
                  <a:pt x="24482" y="5639"/>
                </a:lnTo>
              </a:path>
              <a:path fill="darken" w="34951" h="21600">
                <a:moveTo>
                  <a:pt x="20975" y="13194"/>
                </a:moveTo>
                <a:lnTo>
                  <a:pt x="24482" y="15961"/>
                </a:lnTo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-2409480"/>
            <a:ext cx="7777440" cy="11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嗜（       ）                硕（ 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叱咄（              ）     俟（ 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负箧（      ）曳（      ）屣（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皲（      ）裂             媵（         ）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衾（       ）                绮（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容臭（       ）            烨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裘（      ）葛（     ）缊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冻馁（       ）             谒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撰（          ）             贽（          ）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620640"/>
            <a:ext cx="9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读准字音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2682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 duō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62712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u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1268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9162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1989000"/>
            <a:ext cx="16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07080" y="19162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2637000"/>
            <a:ext cx="15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ū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63700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ng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3284640"/>
            <a:ext cx="12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ǐ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3213000"/>
            <a:ext cx="13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ī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3940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ù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93372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4581360"/>
            <a:ext cx="13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5813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gé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45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ù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522936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ěi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522936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877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5883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à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1280" y="1330560"/>
            <a:ext cx="482436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嗜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学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每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假借于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手自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笔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录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走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送之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尝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百里外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628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喜欢，爱好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249228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常常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429264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动词作状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522936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3357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用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692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Arial"/>
              </a:rPr>
              <a:t>解释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1106280"/>
            <a:ext cx="39607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余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侍左右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德隆望尊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填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其室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遇其叱咄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2421000"/>
            <a:ext cx="37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道德高声望高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350028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充满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443700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14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站立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动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188720"/>
            <a:ext cx="4032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卒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获有所闻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四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支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僵劲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持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汤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沃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灌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日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再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食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被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绮绣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腰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白玉之环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1341360"/>
            <a:ext cx="19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206064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通”肢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肢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85264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。      通”盥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洗手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350028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两次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429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通“披”，穿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67280" y="5013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动词，挂在腰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316520"/>
            <a:ext cx="74883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日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有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……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岁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有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裘葛之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遗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（</a:t>
            </a:r>
            <a:r>
              <a:rPr b="1" i="1" lang="zh-CN" sz="3600" spc="-1" strike="noStrike">
                <a:solidFill>
                  <a:srgbClr val="292929"/>
                </a:solidFill>
                <a:latin typeface="华文细黑"/>
                <a:ea typeface="华文细黑"/>
              </a:rPr>
              <a:t>wèi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博士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余之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录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假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诸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人而后见也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非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天质之卑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则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心不若余之专耳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2205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赠送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45813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之于”。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书。于，向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587700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选择，不是……而是……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95640" y="1484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每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每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293040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99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国子监的老师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371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用手，名词作状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5:08:50Z</dcterms:created>
  <dc:creator>汤蓉</dc:creator>
  <dc:description/>
  <dc:language>en-US</dc:language>
  <cp:lastModifiedBy> </cp:lastModifiedBy>
  <dcterms:modified xsi:type="dcterms:W3CDTF">2007-01-17T02:24:03Z</dcterms:modified>
  <cp:revision>86</cp:revision>
  <dc:subject/>
  <dc:title>送东阳马生序</dc:title>
</cp:coreProperties>
</file>